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5.wmf" ContentType="image/x-wmf"/>
  <Override PartName="/ppt/media/image6.png" ContentType="image/png"/>
  <Override PartName="/ppt/media/image7.png" ContentType="image/png"/>
  <Override PartName="/ppt/media/image8.gif" ContentType="image/gif"/>
  <Override PartName="/ppt/media/image9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BF79-E692-413E-B76A-BA2723FCB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5BDA-B273-40E2-83B8-9447D657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B8EE-CA64-4BBB-9415-E2000E106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4B3B-ECFD-4B21-91CE-1E8F3F35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0BE1-6BD0-432C-82E5-C3E805E2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27BB-D985-4054-8265-FAED857A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9560-69EF-4738-91EF-EC71DE75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90B2-76D4-41C5-81C0-1348F45E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113C-FFBF-480D-B98D-A989683D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1307-9F99-45E7-BDEF-B68139AE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BD4C-F16E-4C30-AD73-DC527678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06D1-8804-49C5-A975-E761E1A6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4369-6DD2-45FC-8106-DAB4B7F71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1773360"/>
            <a:ext cx="75088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 Е С Т А Н Д А Р Т Н Ы Е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 А ДА Ч И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451640" y="6534000"/>
            <a:ext cx="8859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5 КЛАСС</a:t>
            </a:r>
            <a:endParaRPr b="0" lang="en-US" sz="2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276720" y="260280"/>
            <a:ext cx="2485800" cy="23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Реши сам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0464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Угадай корень урав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 : х = 7 – 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6920" y="1700280"/>
            <a:ext cx="7367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 Улитка ползает по столбу высотой 10м. За день она поднимается на 5м, а за ночь опускается на 4м. За какое врем улитка доберётся от подножки до верши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олб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00720" y="3500280"/>
            <a:ext cx="3943080" cy="454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076720" y="1413000"/>
            <a:ext cx="3886200" cy="447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403280" y="4221000"/>
            <a:ext cx="40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Даны числа 1, 2, 3, 4, 5, 6, 7, 8, 9. Расставьте их так, чтобы сумма их на каждой стороне треугольника была равна 2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58920" y="2637000"/>
            <a:ext cx="6840360" cy="9169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5 суток и 1 ден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92360" y="260280"/>
            <a:ext cx="6840360" cy="9169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Х = 3 или Х =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80360" y="155736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364000" y="4076640"/>
            <a:ext cx="3241800" cy="2401920"/>
            <a:chOff x="5364000" y="4076640"/>
            <a:chExt cx="3241800" cy="2401920"/>
          </a:xfrm>
        </p:grpSpPr>
        <p:sp>
          <p:nvSpPr>
            <p:cNvPr id="119" name=""/>
            <p:cNvSpPr/>
            <p:nvPr/>
          </p:nvSpPr>
          <p:spPr>
            <a:xfrm>
              <a:off x="5796000" y="5300640"/>
              <a:ext cx="50472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364000" y="4076640"/>
              <a:ext cx="3241800" cy="2401920"/>
              <a:chOff x="5364000" y="4076640"/>
              <a:chExt cx="3241800" cy="2401920"/>
            </a:xfrm>
          </p:grpSpPr>
          <p:sp>
            <p:nvSpPr>
              <p:cNvPr id="121" name=""/>
              <p:cNvSpPr/>
              <p:nvPr/>
            </p:nvSpPr>
            <p:spPr>
              <a:xfrm>
                <a:off x="5364000" y="5950080"/>
                <a:ext cx="505080" cy="431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435640" y="6021360"/>
                <a:ext cx="360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"/>
              <p:cNvGrpSpPr/>
              <p:nvPr/>
            </p:nvGrpSpPr>
            <p:grpSpPr>
              <a:xfrm>
                <a:off x="6156360" y="4076640"/>
                <a:ext cx="2449440" cy="2401920"/>
                <a:chOff x="6156360" y="4076640"/>
                <a:chExt cx="2449440" cy="240192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6659640" y="4076640"/>
                  <a:ext cx="504720" cy="4320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5" name=""/>
                <p:cNvGrpSpPr/>
                <p:nvPr/>
              </p:nvGrpSpPr>
              <p:grpSpPr>
                <a:xfrm>
                  <a:off x="6156360" y="4581360"/>
                  <a:ext cx="2449440" cy="1897200"/>
                  <a:chOff x="6156360" y="4581360"/>
                  <a:chExt cx="2449440" cy="189720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>
                    <a:off x="7236000" y="4581360"/>
                    <a:ext cx="504720" cy="4320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7667640" y="5229360"/>
                    <a:ext cx="504720" cy="4316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8101080" y="5877000"/>
                    <a:ext cx="504720" cy="4316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7308720" y="5950080"/>
                    <a:ext cx="505080" cy="4316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6372360" y="5950080"/>
                    <a:ext cx="504720" cy="4316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6156360" y="4581360"/>
                    <a:ext cx="504720" cy="4320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8172360" y="5877000"/>
                    <a:ext cx="360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6443640" y="6021360"/>
                    <a:ext cx="360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380360" y="6021360"/>
                    <a:ext cx="43164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35" name=""/>
          <p:cNvGrpSpPr/>
          <p:nvPr/>
        </p:nvGrpSpPr>
        <p:grpSpPr>
          <a:xfrm>
            <a:off x="5364000" y="4149720"/>
            <a:ext cx="3240720" cy="2404440"/>
            <a:chOff x="5364000" y="4149720"/>
            <a:chExt cx="3240720" cy="2404440"/>
          </a:xfrm>
        </p:grpSpPr>
        <p:grpSp>
          <p:nvGrpSpPr>
            <p:cNvPr id="136" name=""/>
            <p:cNvGrpSpPr/>
            <p:nvPr/>
          </p:nvGrpSpPr>
          <p:grpSpPr>
            <a:xfrm>
              <a:off x="5364000" y="4149720"/>
              <a:ext cx="3240720" cy="2404440"/>
              <a:chOff x="5364000" y="4149720"/>
              <a:chExt cx="3240720" cy="2404440"/>
            </a:xfrm>
          </p:grpSpPr>
          <p:sp>
            <p:nvSpPr>
              <p:cNvPr id="137" name=""/>
              <p:cNvSpPr/>
              <p:nvPr/>
            </p:nvSpPr>
            <p:spPr>
              <a:xfrm>
                <a:off x="5364000" y="6023160"/>
                <a:ext cx="504720" cy="431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435280" y="609444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6156000" y="4149720"/>
                <a:ext cx="2448720" cy="2404440"/>
                <a:chOff x="6156000" y="4149720"/>
                <a:chExt cx="2448720" cy="24044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6658920" y="4149720"/>
                  <a:ext cx="504360" cy="4320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1" name=""/>
                <p:cNvGrpSpPr/>
                <p:nvPr/>
              </p:nvGrpSpPr>
              <p:grpSpPr>
                <a:xfrm>
                  <a:off x="6156000" y="4654440"/>
                  <a:ext cx="2448720" cy="1899720"/>
                  <a:chOff x="6156000" y="4654440"/>
                  <a:chExt cx="2448720" cy="189972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>
                    <a:off x="7235280" y="4654440"/>
                    <a:ext cx="504360" cy="4320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7666920" y="5302440"/>
                    <a:ext cx="504360" cy="4316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9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8100360" y="5950080"/>
                    <a:ext cx="504360" cy="4316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308000" y="6023160"/>
                    <a:ext cx="504720" cy="4316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6371640" y="6023160"/>
                    <a:ext cx="504360" cy="4316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6156000" y="4654440"/>
                    <a:ext cx="504360" cy="4320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8171640" y="595008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6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6442920" y="609444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7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7379640" y="6094440"/>
                    <a:ext cx="431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51" name=""/>
            <p:cNvSpPr/>
            <p:nvPr/>
          </p:nvSpPr>
          <p:spPr>
            <a:xfrm>
              <a:off x="5797440" y="5229360"/>
              <a:ext cx="50472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76360" y="1268280"/>
            <a:ext cx="7345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В летний лагерь приехали отдыхать три друга: Миша, Володя, Петя. Известно, что каждый из них имеет одну из следующих фамилий: Иванов, Семёнов, Герасимов.  Миша – не Герасимов. Отец Володи – инженер. Володя учится в 6 классе. Герасимов учится в 5 классе. Отец Иванова – учитель. Какая фамилия у каждого учен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2257560" cy="152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564000" y="476280"/>
            <a:ext cx="2257200" cy="152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651640" y="476280"/>
            <a:ext cx="2257200" cy="152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438200" y="558972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(Герасимов Петя, Иванов Миша, Семёнов Волод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47628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Кот в сапогах поймал четырех щук и ещё половину улова. Сколько щук поймал Кот в сапогах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1413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8щ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206064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Кирпич весит 2 кг и ещё треть собственного веса. Сколько весит кирпич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16360" y="2997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3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3573360"/>
            <a:ext cx="799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Зайцы пилят бревно. Они сделали 10 распилов. Сколько чурбачков у них получило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27640" y="4508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11 чурбач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22200" y="5157720"/>
            <a:ext cx="79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Бублик режут на сектора. Сделали 10 разрезов. Сколько получилось куск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67280" y="6021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10 кус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350120" y="0"/>
            <a:ext cx="179388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52360" y="0"/>
            <a:ext cx="799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сса бидона с молоком 32 кг, а масса пустого бидона – 2 кг. Какова масса бидона заполненного молоком наполов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470720" y="3933720"/>
            <a:ext cx="1673280" cy="1586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32000" y="1949400"/>
            <a:ext cx="7812000" cy="49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 – 2 = 30 (кг) – масса молока без бид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 : 2 = 15 (кг) – масса молока половины бид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 + 2 = 17 (кг) – масса бидона наполовину заполненного моло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вет: 17 к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0"/>
            <a:ext cx="7885080" cy="198900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76360" y="333360"/>
            <a:ext cx="644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 ученика делают 3 самолётика за 3 минуты. Сколько учеников сделают 9 самолётиков за 9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22480"/>
            <a:ext cx="7200720" cy="39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ученик делает 1 самолёт за 3 минуты. Значит за 9 минут он сделает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9 : 3 = 3 самолё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начит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за 9 минут 3 самолёта сделают 3 ученик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3 уче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333360"/>
            <a:ext cx="6769080" cy="2492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308720" y="2349360"/>
            <a:ext cx="183528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00000" y="189000"/>
            <a:ext cx="79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лыш может съесть 600г варенья за 6 минут, а Карлсон – в 2 раза быстрее. За какое время они съедят это варенье вм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2565360"/>
            <a:ext cx="79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00 : 6 = 100 (г) варенья съст Малыш за 1 мину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357336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10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2 = 200 (г) съест за 1 минуту Карлс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50920" y="414972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100 + 200 = 300 (г)  съедят варенье Малыш и Карлсон вместе за 1 м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32000" y="522936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) 600 : 300 = 2 (мин) понадобится чтобы вместе съесть 600г варен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360" y="6308640"/>
            <a:ext cx="51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т: 2 мину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0"/>
            <a:ext cx="8066160" cy="24210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55640" y="476280"/>
            <a:ext cx="7128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ри подруги вышли в белом, синем и зелёном платьях и туфлях таких же цветов. Известно, что только у Ани цвет платья и туфель совпадает. И они не были белыми. Наташа была в зелёных туфлях. Определите цвет платья и туфель каждой подру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260280"/>
            <a:ext cx="7634160" cy="525636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4160" y="4149720"/>
            <a:ext cx="15098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547640" y="189000"/>
          <a:ext cx="6096240" cy="30319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ть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ф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падают, но не бел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ел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та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ё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684360" y="335772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уфли Ани  не были белого цвета, но они и не были зелёного, так как в зелёных была Ната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414972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начит у Ани туфли – синего цвета. А так как цвет платья Ани совпадает с цветом туфель, то значит плате у неё тоже СИНЕ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72360" y="649116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24360" y="981000"/>
            <a:ext cx="1656000" cy="6426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и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530064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 Наташи  платье не может быть синем и не может быть зелёным, значит оно – бел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08360" y="1916280"/>
            <a:ext cx="165564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елё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609300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тье Вали – зелёное, а туфли – бел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35280" y="981000"/>
            <a:ext cx="1871640" cy="6426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и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8360" y="2492280"/>
            <a:ext cx="1871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Е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51640" y="1916280"/>
            <a:ext cx="1871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Е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27280" y="33336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йди среди чисел 3а + 1 первые три числа, которые кратны 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03280" y="1628640"/>
            <a:ext cx="3024360" cy="60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1 + 1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2 + 1 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3+ 1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4 + 1 =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 + 1 =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6 + 1 =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1557360"/>
            <a:ext cx="4572000" cy="39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7 + 1 =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8 + 1 =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9+ 1 =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10 + 1 = 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11 + 1 = 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12 + 1 = 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13 + 1 =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573408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Ответ: 10, 25, 4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740720" y="1700280"/>
            <a:ext cx="1098360" cy="1098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380360" y="3068640"/>
            <a:ext cx="1098360" cy="1098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7812000" y="4797360"/>
            <a:ext cx="10987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4360" y="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лассе 35 учеников. Из них 20 школьников занимаются в математическом кружке, 11  - в экологическом, 10 ребят не посещают эти кружки. Сколько экологов занимаются в математическом круж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407664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3213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748720" y="393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276200" y="2281680"/>
            <a:ext cx="7473600" cy="359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42" y="34"/>
                </a:moveTo>
                <a:arcTo wR="10800" hR="10800" stAng="-5673328" swAng="5673328"/>
                <a:lnTo>
                  <a:pt x="10800" y="10800"/>
                </a:lnTo>
                <a:close/>
              </a:path>
              <a:path fill="none" w="21600" h="21600">
                <a:moveTo>
                  <a:pt x="9942" y="34"/>
                </a:moveTo>
                <a:arcTo wR="10800" hR="10800" stAng="-5673328" swAng="567332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900720" y="2282040"/>
            <a:ext cx="7769160" cy="359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6" y="0"/>
                </a:moveTo>
                <a:arcTo wR="10800" hR="10800" stAng="-5401148" swAng="5401148"/>
                <a:lnTo>
                  <a:pt x="10800" y="10800"/>
                </a:lnTo>
                <a:close/>
              </a:path>
              <a:path fill="none" w="21600" h="21600">
                <a:moveTo>
                  <a:pt x="10796" y="0"/>
                </a:moveTo>
                <a:arcTo wR="10800" hR="10800" stAng="-5401148" swAng="540114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300000" y="3573360"/>
            <a:ext cx="3022200" cy="100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52000" y="3573360"/>
            <a:ext cx="2231280" cy="100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00720" y="364500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00720" y="40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4076640"/>
            <a:ext cx="540072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364500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48000" y="364500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826560" y="3645000"/>
            <a:ext cx="25210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132000" y="4437000"/>
            <a:ext cx="17272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4437000"/>
            <a:ext cx="17272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32000" y="371628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84720" y="6093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35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9640" y="299736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0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24360" y="4581360"/>
            <a:ext cx="244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эколог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1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29973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атематический 11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08:23:02Z</dcterms:created>
  <dc:creator>школа</dc:creator>
  <dc:description/>
  <dc:language>en-US</dc:language>
  <cp:lastModifiedBy>Natalia</cp:lastModifiedBy>
  <dcterms:modified xsi:type="dcterms:W3CDTF">2010-10-07T13:33:11Z</dcterms:modified>
  <cp:revision>20</cp:revision>
  <dc:subject/>
  <dc:title>Слайд 1</dc:title>
</cp:coreProperties>
</file>