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2.jpeg" ContentType="image/jpeg"/>
  <Override PartName="/ppt/media/image10.png" ContentType="image/png"/>
  <Override PartName="/ppt/media/image28.gif" ContentType="image/gif"/>
  <Override PartName="/ppt/media/image26.gif" ContentType="image/gif"/>
  <Override PartName="/ppt/media/image14.gif" ContentType="image/gif"/>
  <Override PartName="/ppt/media/image22.gif" ContentType="image/gif"/>
  <Override PartName="/ppt/media/image21.gif" ContentType="image/gif"/>
  <Override PartName="/ppt/media/image17.gif" ContentType="image/gif"/>
  <Override PartName="/ppt/media/image16.gif" ContentType="image/gif"/>
  <Override PartName="/ppt/media/image19.png" ContentType="image/png"/>
  <Override PartName="/ppt/media/image18.png" ContentType="image/png"/>
  <Override PartName="/ppt/media/image20.png" ContentType="image/png"/>
  <Override PartName="/ppt/media/image15.gif" ContentType="image/gif"/>
  <Override PartName="/ppt/media/image25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03112-629E-44C9-9B0E-49A02D3DD4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AFDB5-2B4C-4705-9B4D-CFAE1D8651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66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1AB-1819-4B97-82A9-D99DC38E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3AE-1DBF-433E-9646-F6C7C8EB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25A-70EF-4F11-AB93-D1E69FB0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199-68FA-4740-BB11-6231C130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DE7-3B52-47D3-BAFC-8A73B0DA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7B7-FC39-4147-B1E4-93992F36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93E-BA1F-459F-9583-6AC32325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D82-F34E-497C-ADE1-E73A8A63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E9E-9B81-4186-BE5E-2A76175D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B0A-D9DD-42A0-BCD1-D506C211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886-BA90-4D37-B488-2C3C2952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52A-32C3-44FA-8E99-B32ABD2C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C1E1B-1849-4166-8022-83C977C67B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15.gif"/><Relationship Id="rId4" Type="http://schemas.openxmlformats.org/officeDocument/2006/relationships/image" Target="../media/image25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Program Files\Windows Media Player\wmplayer.exe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8.gif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5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33920" y="528480"/>
            <a:ext cx="5578200" cy="2675160"/>
          </a:xfrm>
          <a:prstGeom prst="roundRect">
            <a:avLst>
              <a:gd name="adj" fmla="val 16667"/>
            </a:avLst>
          </a:prstGeom>
          <a:solidFill>
            <a:srgbClr val="99cc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08360" y="1116000"/>
            <a:ext cx="3673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d60093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ЁТ  В  </a:t>
            </a:r>
            <a:endParaRPr b="0" lang="en-US" sz="1800" spc="1" strike="noStrike">
              <a:ln w="19080">
                <a:solidFill>
                  <a:srgbClr val="d60093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d60093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СМОС</a:t>
            </a:r>
            <a:endParaRPr b="0" lang="en-US" sz="1800" spc="1" strike="noStrike">
              <a:ln w="19080">
                <a:solidFill>
                  <a:srgbClr val="d60093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76360" y="395280"/>
            <a:ext cx="2052720" cy="2443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146560" y="1403280"/>
            <a:ext cx="4934160" cy="1781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2808360" y="2627280"/>
            <a:ext cx="3149640" cy="38894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808360" y="0"/>
            <a:ext cx="5105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хи ногами и рукам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440000" y="1763640"/>
            <a:ext cx="3900240" cy="4537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76360" y="395280"/>
            <a:ext cx="2298600" cy="2736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5256360" y="1979640"/>
            <a:ext cx="3900240" cy="4537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3672000" y="684360"/>
            <a:ext cx="446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ыжк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03280" y="250920"/>
            <a:ext cx="2052720" cy="2442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824360" y="2266920"/>
            <a:ext cx="4179960" cy="335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1295280" y="1476360"/>
            <a:ext cx="3505320" cy="4675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2952720" y="466560"/>
            <a:ext cx="42181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нцуют все!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7272360" y="684360"/>
            <a:ext cx="2038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95280" y="539640"/>
            <a:ext cx="69278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Оценки за физминутку: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63640" y="2771640"/>
            <a:ext cx="1224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,3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952720" y="2700360"/>
            <a:ext cx="1368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,8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184720" y="2627280"/>
            <a:ext cx="1368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,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345440" y="2556000"/>
            <a:ext cx="1368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,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47640" y="4356000"/>
            <a:ext cx="1368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,7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79640" y="4284720"/>
            <a:ext cx="1368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,9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40360" y="4211640"/>
            <a:ext cx="1368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,1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201080" y="4211640"/>
            <a:ext cx="1368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,2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800360" y="5651640"/>
            <a:ext cx="69278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d60093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ычисли среднюю оценку</a:t>
            </a:r>
            <a:endParaRPr b="0" lang="en-US" sz="1800" spc="1" strike="noStrike">
              <a:ln w="38160">
                <a:solidFill>
                  <a:srgbClr val="d60093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d60093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за физминутку</a:t>
            </a:r>
            <a:endParaRPr b="0" lang="en-US" sz="1800" spc="1" strike="noStrike">
              <a:ln w="38160">
                <a:solidFill>
                  <a:srgbClr val="d60093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871640" y="1476360"/>
            <a:ext cx="686268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ЁТ ПРОШЁЛ ХОРОШ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М СПАСИБО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863640" y="3635280"/>
            <a:ext cx="2221920" cy="1983600"/>
            <a:chOff x="863640" y="3635280"/>
            <a:chExt cx="2221920" cy="1983600"/>
          </a:xfrm>
        </p:grpSpPr>
        <p:grpSp>
          <p:nvGrpSpPr>
            <p:cNvPr id="51" name=""/>
            <p:cNvGrpSpPr/>
            <p:nvPr/>
          </p:nvGrpSpPr>
          <p:grpSpPr>
            <a:xfrm>
              <a:off x="863640" y="3635280"/>
              <a:ext cx="2221920" cy="1983600"/>
              <a:chOff x="863640" y="3635280"/>
              <a:chExt cx="2221920" cy="1983600"/>
            </a:xfrm>
          </p:grpSpPr>
          <p:sp>
            <p:nvSpPr>
              <p:cNvPr id="52" name=""/>
              <p:cNvSpPr/>
              <p:nvPr/>
            </p:nvSpPr>
            <p:spPr>
              <a:xfrm>
                <a:off x="863640" y="3635280"/>
                <a:ext cx="18234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35000" y="3759120"/>
                <a:ext cx="18216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62160" y="3883320"/>
                <a:ext cx="18234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 txBox="1"/>
            <p:nvPr/>
          </p:nvSpPr>
          <p:spPr>
            <a:xfrm>
              <a:off x="2055240" y="4350600"/>
              <a:ext cx="285120" cy="61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57240">
                    <a:solidFill>
                      <a:srgbClr val="000099"/>
                    </a:solidFill>
                    <a:miter/>
                  </a:ln>
                  <a:solidFill>
                    <a:srgbClr val="cccc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1" lang="en-US" sz="1800" spc="1" strike="noStrike">
                <a:ln w="57240">
                  <a:solidFill>
                    <a:srgbClr val="000099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2916360"/>
            <a:ext cx="1270080" cy="1062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287280" y="755640"/>
            <a:ext cx="2221920" cy="1983600"/>
            <a:chOff x="287280" y="755640"/>
            <a:chExt cx="2221920" cy="1983600"/>
          </a:xfrm>
        </p:grpSpPr>
        <p:grpSp>
          <p:nvGrpSpPr>
            <p:cNvPr id="58" name=""/>
            <p:cNvGrpSpPr/>
            <p:nvPr/>
          </p:nvGrpSpPr>
          <p:grpSpPr>
            <a:xfrm>
              <a:off x="287280" y="755640"/>
              <a:ext cx="2221920" cy="1983600"/>
              <a:chOff x="287280" y="755640"/>
              <a:chExt cx="2221920" cy="1983600"/>
            </a:xfrm>
          </p:grpSpPr>
          <p:sp>
            <p:nvSpPr>
              <p:cNvPr id="59" name=""/>
              <p:cNvSpPr/>
              <p:nvPr/>
            </p:nvSpPr>
            <p:spPr>
              <a:xfrm>
                <a:off x="287280" y="755640"/>
                <a:ext cx="18234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8640" y="879480"/>
                <a:ext cx="18216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85800" y="1003680"/>
                <a:ext cx="18234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 txBox="1"/>
            <p:nvPr/>
          </p:nvSpPr>
          <p:spPr>
            <a:xfrm>
              <a:off x="1478880" y="1470960"/>
              <a:ext cx="285120" cy="61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57240">
                    <a:solidFill>
                      <a:srgbClr val="000099"/>
                    </a:solidFill>
                    <a:miter/>
                  </a:ln>
                  <a:solidFill>
                    <a:srgbClr val="cccc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</a:t>
              </a:r>
              <a:endParaRPr b="1" lang="en-US" sz="1800" spc="1" strike="noStrike">
                <a:ln w="57240">
                  <a:solidFill>
                    <a:srgbClr val="000099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527280" y="826920"/>
            <a:ext cx="2221920" cy="1983600"/>
            <a:chOff x="3527280" y="826920"/>
            <a:chExt cx="2221920" cy="1983600"/>
          </a:xfrm>
        </p:grpSpPr>
        <p:grpSp>
          <p:nvGrpSpPr>
            <p:cNvPr id="64" name=""/>
            <p:cNvGrpSpPr/>
            <p:nvPr/>
          </p:nvGrpSpPr>
          <p:grpSpPr>
            <a:xfrm>
              <a:off x="3527280" y="826920"/>
              <a:ext cx="2221920" cy="1983600"/>
              <a:chOff x="3527280" y="826920"/>
              <a:chExt cx="2221920" cy="1983600"/>
            </a:xfrm>
          </p:grpSpPr>
          <p:sp>
            <p:nvSpPr>
              <p:cNvPr id="65" name=""/>
              <p:cNvSpPr/>
              <p:nvPr/>
            </p:nvSpPr>
            <p:spPr>
              <a:xfrm>
                <a:off x="3527280" y="826920"/>
                <a:ext cx="18234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98640" y="950760"/>
                <a:ext cx="18216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25800" y="1074960"/>
                <a:ext cx="18234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 txBox="1"/>
            <p:nvPr/>
          </p:nvSpPr>
          <p:spPr>
            <a:xfrm>
              <a:off x="4718880" y="1542240"/>
              <a:ext cx="285120" cy="61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57240">
                    <a:solidFill>
                      <a:srgbClr val="000099"/>
                    </a:solidFill>
                    <a:miter/>
                  </a:ln>
                  <a:solidFill>
                    <a:srgbClr val="cccc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1" lang="en-US" sz="1800" spc="1" strike="noStrike">
                <a:ln w="57240">
                  <a:solidFill>
                    <a:srgbClr val="000099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335640" y="826920"/>
            <a:ext cx="2221920" cy="1983600"/>
            <a:chOff x="6335640" y="826920"/>
            <a:chExt cx="2221920" cy="1983600"/>
          </a:xfrm>
        </p:grpSpPr>
        <p:grpSp>
          <p:nvGrpSpPr>
            <p:cNvPr id="70" name=""/>
            <p:cNvGrpSpPr/>
            <p:nvPr/>
          </p:nvGrpSpPr>
          <p:grpSpPr>
            <a:xfrm>
              <a:off x="6335640" y="826920"/>
              <a:ext cx="2221920" cy="1983600"/>
              <a:chOff x="6335640" y="826920"/>
              <a:chExt cx="2221920" cy="1983600"/>
            </a:xfrm>
          </p:grpSpPr>
          <p:sp>
            <p:nvSpPr>
              <p:cNvPr id="71" name=""/>
              <p:cNvSpPr/>
              <p:nvPr/>
            </p:nvSpPr>
            <p:spPr>
              <a:xfrm>
                <a:off x="6335640" y="826920"/>
                <a:ext cx="18234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07000" y="950760"/>
                <a:ext cx="18216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734160" y="1074960"/>
                <a:ext cx="18234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 txBox="1"/>
            <p:nvPr/>
          </p:nvSpPr>
          <p:spPr>
            <a:xfrm>
              <a:off x="7527240" y="1542240"/>
              <a:ext cx="285120" cy="61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57240">
                    <a:solidFill>
                      <a:srgbClr val="000099"/>
                    </a:solidFill>
                    <a:miter/>
                  </a:ln>
                  <a:solidFill>
                    <a:srgbClr val="cccc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1" lang="en-US" sz="1800" spc="1" strike="noStrike">
                <a:ln w="57240">
                  <a:solidFill>
                    <a:srgbClr val="000099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672000" y="3635280"/>
            <a:ext cx="2221560" cy="1983600"/>
            <a:chOff x="3672000" y="3635280"/>
            <a:chExt cx="2221560" cy="1983600"/>
          </a:xfrm>
        </p:grpSpPr>
        <p:grpSp>
          <p:nvGrpSpPr>
            <p:cNvPr id="76" name=""/>
            <p:cNvGrpSpPr/>
            <p:nvPr/>
          </p:nvGrpSpPr>
          <p:grpSpPr>
            <a:xfrm>
              <a:off x="3672000" y="3635280"/>
              <a:ext cx="2221560" cy="1983600"/>
              <a:chOff x="3672000" y="3635280"/>
              <a:chExt cx="2221560" cy="1983600"/>
            </a:xfrm>
          </p:grpSpPr>
          <p:sp>
            <p:nvSpPr>
              <p:cNvPr id="77" name=""/>
              <p:cNvSpPr/>
              <p:nvPr/>
            </p:nvSpPr>
            <p:spPr>
              <a:xfrm>
                <a:off x="3672000" y="3635280"/>
                <a:ext cx="182304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843360" y="3759120"/>
                <a:ext cx="182124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70520" y="3883320"/>
                <a:ext cx="182304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 txBox="1"/>
            <p:nvPr/>
          </p:nvSpPr>
          <p:spPr>
            <a:xfrm>
              <a:off x="4863240" y="4350600"/>
              <a:ext cx="285120" cy="61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57240">
                    <a:solidFill>
                      <a:srgbClr val="000099"/>
                    </a:solidFill>
                    <a:miter/>
                  </a:ln>
                  <a:solidFill>
                    <a:srgbClr val="cccc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1" lang="en-US" sz="1800" spc="1" strike="noStrike">
                <a:ln w="57240">
                  <a:solidFill>
                    <a:srgbClr val="000099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553080" y="3635280"/>
            <a:ext cx="2221920" cy="1983600"/>
            <a:chOff x="6553080" y="3635280"/>
            <a:chExt cx="2221920" cy="1983600"/>
          </a:xfrm>
        </p:grpSpPr>
        <p:grpSp>
          <p:nvGrpSpPr>
            <p:cNvPr id="82" name=""/>
            <p:cNvGrpSpPr/>
            <p:nvPr/>
          </p:nvGrpSpPr>
          <p:grpSpPr>
            <a:xfrm>
              <a:off x="6553080" y="3635280"/>
              <a:ext cx="2221920" cy="1983600"/>
              <a:chOff x="6553080" y="3635280"/>
              <a:chExt cx="2221920" cy="1983600"/>
            </a:xfrm>
          </p:grpSpPr>
          <p:sp>
            <p:nvSpPr>
              <p:cNvPr id="83" name=""/>
              <p:cNvSpPr/>
              <p:nvPr/>
            </p:nvSpPr>
            <p:spPr>
              <a:xfrm>
                <a:off x="6553080" y="3635280"/>
                <a:ext cx="18234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24440" y="3759120"/>
                <a:ext cx="18216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51600" y="3883320"/>
                <a:ext cx="1823400" cy="173556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 txBox="1"/>
            <p:nvPr/>
          </p:nvSpPr>
          <p:spPr>
            <a:xfrm>
              <a:off x="7744680" y="4350600"/>
              <a:ext cx="285120" cy="61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57240">
                    <a:solidFill>
                      <a:srgbClr val="000099"/>
                    </a:solidFill>
                    <a:miter/>
                  </a:ln>
                  <a:solidFill>
                    <a:srgbClr val="cccc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1" lang="en-US" sz="1800" spc="1" strike="noStrike">
                <a:ln w="57240">
                  <a:solidFill>
                    <a:srgbClr val="000099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912000" y="2916360"/>
            <a:ext cx="1271520" cy="106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71640" y="611280"/>
            <a:ext cx="6480360" cy="4968720"/>
          </a:xfrm>
          <a:prstGeom prst="irregularSeal2">
            <a:avLst/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де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сло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сятич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робь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0"/>
            <a:ext cx="6913800" cy="655308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слож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ве десятич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роб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36720" y="395280"/>
            <a:ext cx="7777080" cy="655308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из од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есятичной д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честь другу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0"/>
            <a:ext cx="7777080" cy="655308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перемнож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есятичные дроб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0000" y="539640"/>
            <a:ext cx="7777080" cy="65534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раздел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есятичную дро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натуральное чис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0000" y="539640"/>
            <a:ext cx="7777080" cy="65534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йти средне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ифмет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скольки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9001080" y="6804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6360" y="1692360"/>
            <a:ext cx="8856720" cy="3744720"/>
            <a:chOff x="576360" y="1692360"/>
            <a:chExt cx="8856720" cy="3744720"/>
          </a:xfrm>
        </p:grpSpPr>
        <p:sp>
          <p:nvSpPr>
            <p:cNvPr id="96" name=""/>
            <p:cNvSpPr/>
            <p:nvPr/>
          </p:nvSpPr>
          <p:spPr>
            <a:xfrm>
              <a:off x="576360" y="1692360"/>
              <a:ext cx="8856720" cy="3744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224000" y="1979280"/>
              <a:ext cx="7632720" cy="324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 О Е Х А Л И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31640" y="5796000"/>
            <a:ext cx="1163880" cy="154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8064360" y="5003640"/>
            <a:ext cx="1365480" cy="17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ВИКТОР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первого космонавта 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осмонавты какой страны первыми ступили на поверхность Лу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азовите самую маленькую  планету Солнечн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каком году был совершён первый полёт в космо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>
            <a:hlinkClick r:id="" action="ppaction://hlinkshowjump?jump=nextslide"/>
          </p:cNvPr>
          <p:cNvSpPr/>
          <p:nvPr/>
        </p:nvSpPr>
        <p:spPr>
          <a:xfrm>
            <a:off x="1152360" y="2266920"/>
            <a:ext cx="1847880" cy="574560"/>
          </a:xfrm>
          <a:custGeom>
            <a:avLst/>
            <a:gdLst>
              <a:gd name="textAreaLeft" fmla="*/ 37080 w 1847880"/>
              <a:gd name="textAreaRight" fmla="*/ 1810800 w 18478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69439" h="21600">
                <a:moveTo>
                  <a:pt x="0" y="0"/>
                </a:moveTo>
                <a:lnTo>
                  <a:pt x="69439" y="0"/>
                </a:lnTo>
                <a:lnTo>
                  <a:pt x="69439" y="21600"/>
                </a:lnTo>
                <a:lnTo>
                  <a:pt x="0" y="21600"/>
                </a:lnTo>
                <a:close/>
              </a:path>
              <a:path fill="lightenLess" w="69439" h="21600">
                <a:moveTo>
                  <a:pt x="0" y="0"/>
                </a:moveTo>
                <a:lnTo>
                  <a:pt x="69439" y="0"/>
                </a:lnTo>
                <a:lnTo>
                  <a:pt x="68039" y="1400"/>
                </a:lnTo>
                <a:lnTo>
                  <a:pt x="1400" y="1400"/>
                </a:lnTo>
                <a:close/>
              </a:path>
              <a:path fill="darken" w="69439" h="21600">
                <a:moveTo>
                  <a:pt x="69439" y="0"/>
                </a:moveTo>
                <a:lnTo>
                  <a:pt x="69439" y="21600"/>
                </a:lnTo>
                <a:lnTo>
                  <a:pt x="68039" y="20200"/>
                </a:lnTo>
                <a:lnTo>
                  <a:pt x="68039" y="1400"/>
                </a:lnTo>
                <a:close/>
              </a:path>
              <a:path fill="darkenLess" w="69439" h="21600">
                <a:moveTo>
                  <a:pt x="69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039" y="20200"/>
                </a:lnTo>
                <a:close/>
              </a:path>
              <a:path fill="lighten" w="69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ага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>
            <a:hlinkClick r:id="" action="ppaction://hlinkshowjump?jump=nextslide"/>
          </p:cNvPr>
          <p:cNvSpPr/>
          <p:nvPr/>
        </p:nvSpPr>
        <p:spPr>
          <a:xfrm>
            <a:off x="6264360" y="226692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Т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>
            <a:hlinkClick r:id="rId2"/>
          </p:cNvPr>
          <p:cNvSpPr/>
          <p:nvPr/>
        </p:nvSpPr>
        <p:spPr>
          <a:xfrm>
            <a:off x="1079640" y="3780000"/>
            <a:ext cx="1763640" cy="576000"/>
          </a:xfrm>
          <a:custGeom>
            <a:avLst/>
            <a:gdLst>
              <a:gd name="textAreaLeft" fmla="*/ 37080 w 1763640"/>
              <a:gd name="textAreaRight" fmla="*/ 1726560 w 17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6109" h="21600">
                <a:moveTo>
                  <a:pt x="0" y="0"/>
                </a:moveTo>
                <a:lnTo>
                  <a:pt x="66109" y="0"/>
                </a:lnTo>
                <a:lnTo>
                  <a:pt x="66109" y="21600"/>
                </a:lnTo>
                <a:lnTo>
                  <a:pt x="0" y="21600"/>
                </a:lnTo>
                <a:close/>
              </a:path>
              <a:path fill="lightenLess" w="66109" h="21600">
                <a:moveTo>
                  <a:pt x="0" y="0"/>
                </a:moveTo>
                <a:lnTo>
                  <a:pt x="66109" y="0"/>
                </a:lnTo>
                <a:lnTo>
                  <a:pt x="64709" y="1400"/>
                </a:lnTo>
                <a:lnTo>
                  <a:pt x="1400" y="1400"/>
                </a:lnTo>
                <a:close/>
              </a:path>
              <a:path fill="darken" w="66109" h="21600">
                <a:moveTo>
                  <a:pt x="66109" y="0"/>
                </a:moveTo>
                <a:lnTo>
                  <a:pt x="66109" y="21600"/>
                </a:lnTo>
                <a:lnTo>
                  <a:pt x="64709" y="20200"/>
                </a:lnTo>
                <a:lnTo>
                  <a:pt x="64709" y="1400"/>
                </a:lnTo>
                <a:close/>
              </a:path>
              <a:path fill="darkenLess" w="66109" h="21600">
                <a:moveTo>
                  <a:pt x="66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09" y="20200"/>
                </a:lnTo>
                <a:close/>
              </a:path>
              <a:path fill="lighten" w="66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СС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>
            <a:hlinkClick r:id="" action="ppaction://hlinkshowjump?jump=nextslide"/>
          </p:cNvPr>
          <p:cNvSpPr/>
          <p:nvPr/>
        </p:nvSpPr>
        <p:spPr>
          <a:xfrm>
            <a:off x="6553080" y="3780000"/>
            <a:ext cx="1595520" cy="576000"/>
          </a:xfrm>
          <a:custGeom>
            <a:avLst/>
            <a:gdLst>
              <a:gd name="textAreaLeft" fmla="*/ 37080 w 1595520"/>
              <a:gd name="textAreaRight" fmla="*/ 1558440 w 15955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808" h="21600">
                <a:moveTo>
                  <a:pt x="0" y="0"/>
                </a:moveTo>
                <a:lnTo>
                  <a:pt x="59808" y="0"/>
                </a:lnTo>
                <a:lnTo>
                  <a:pt x="59808" y="21600"/>
                </a:lnTo>
                <a:lnTo>
                  <a:pt x="0" y="21600"/>
                </a:lnTo>
                <a:close/>
              </a:path>
              <a:path fill="lightenLess" w="59808" h="21600">
                <a:moveTo>
                  <a:pt x="0" y="0"/>
                </a:moveTo>
                <a:lnTo>
                  <a:pt x="59808" y="0"/>
                </a:lnTo>
                <a:lnTo>
                  <a:pt x="58408" y="1400"/>
                </a:lnTo>
                <a:lnTo>
                  <a:pt x="1400" y="1400"/>
                </a:lnTo>
                <a:close/>
              </a:path>
              <a:path fill="darken" w="59808" h="21600">
                <a:moveTo>
                  <a:pt x="59808" y="0"/>
                </a:moveTo>
                <a:lnTo>
                  <a:pt x="59808" y="21600"/>
                </a:lnTo>
                <a:lnTo>
                  <a:pt x="58408" y="20200"/>
                </a:lnTo>
                <a:lnTo>
                  <a:pt x="58408" y="1400"/>
                </a:lnTo>
                <a:close/>
              </a:path>
              <a:path fill="darkenLess" w="59808" h="21600">
                <a:moveTo>
                  <a:pt x="59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08" y="20200"/>
                </a:lnTo>
                <a:close/>
              </a:path>
              <a:path fill="lighten" w="59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rId3"/>
          </p:cNvPr>
          <p:cNvSpPr/>
          <p:nvPr/>
        </p:nvSpPr>
        <p:spPr>
          <a:xfrm>
            <a:off x="1152360" y="5075280"/>
            <a:ext cx="1847880" cy="576360"/>
          </a:xfrm>
          <a:custGeom>
            <a:avLst/>
            <a:gdLst>
              <a:gd name="textAreaLeft" fmla="*/ 37080 w 1847880"/>
              <a:gd name="textAreaRight" fmla="*/ 1810800 w 18478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9222" h="21600">
                <a:moveTo>
                  <a:pt x="0" y="0"/>
                </a:moveTo>
                <a:lnTo>
                  <a:pt x="69222" y="0"/>
                </a:lnTo>
                <a:lnTo>
                  <a:pt x="69222" y="21600"/>
                </a:lnTo>
                <a:lnTo>
                  <a:pt x="0" y="21600"/>
                </a:lnTo>
                <a:close/>
              </a:path>
              <a:path fill="lightenLess" w="69222" h="21600">
                <a:moveTo>
                  <a:pt x="0" y="0"/>
                </a:moveTo>
                <a:lnTo>
                  <a:pt x="69222" y="0"/>
                </a:lnTo>
                <a:lnTo>
                  <a:pt x="67823" y="1400"/>
                </a:lnTo>
                <a:lnTo>
                  <a:pt x="1400" y="1400"/>
                </a:lnTo>
                <a:close/>
              </a:path>
              <a:path fill="darken" w="69222" h="21600">
                <a:moveTo>
                  <a:pt x="69222" y="0"/>
                </a:moveTo>
                <a:lnTo>
                  <a:pt x="69222" y="21600"/>
                </a:lnTo>
                <a:lnTo>
                  <a:pt x="67823" y="20200"/>
                </a:lnTo>
                <a:lnTo>
                  <a:pt x="67823" y="1400"/>
                </a:lnTo>
                <a:close/>
              </a:path>
              <a:path fill="darkenLess" w="69222" h="21600">
                <a:moveTo>
                  <a:pt x="6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23" y="20200"/>
                </a:lnTo>
                <a:close/>
              </a:path>
              <a:path fill="lighten" w="6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Плу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>
            <a:hlinkClick r:id="" action="ppaction://hlinkshowjump?jump=nextslide"/>
          </p:cNvPr>
          <p:cNvSpPr/>
          <p:nvPr/>
        </p:nvSpPr>
        <p:spPr>
          <a:xfrm>
            <a:off x="6408720" y="5075280"/>
            <a:ext cx="1727280" cy="623880"/>
          </a:xfrm>
          <a:custGeom>
            <a:avLst/>
            <a:gdLst>
              <a:gd name="textAreaLeft" fmla="*/ 40320 w 1727280"/>
              <a:gd name="textAreaRight" fmla="*/ 1686960 w 172728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59780" h="21600">
                <a:moveTo>
                  <a:pt x="0" y="0"/>
                </a:moveTo>
                <a:lnTo>
                  <a:pt x="59780" y="0"/>
                </a:lnTo>
                <a:lnTo>
                  <a:pt x="59780" y="21600"/>
                </a:lnTo>
                <a:lnTo>
                  <a:pt x="0" y="21600"/>
                </a:lnTo>
                <a:close/>
              </a:path>
              <a:path fill="lightenLess" w="59780" h="21600">
                <a:moveTo>
                  <a:pt x="0" y="0"/>
                </a:moveTo>
                <a:lnTo>
                  <a:pt x="59780" y="0"/>
                </a:lnTo>
                <a:lnTo>
                  <a:pt x="58380" y="1400"/>
                </a:lnTo>
                <a:lnTo>
                  <a:pt x="1400" y="1400"/>
                </a:lnTo>
                <a:close/>
              </a:path>
              <a:path fill="darken" w="59780" h="21600">
                <a:moveTo>
                  <a:pt x="59780" y="0"/>
                </a:moveTo>
                <a:lnTo>
                  <a:pt x="59780" y="21600"/>
                </a:lnTo>
                <a:lnTo>
                  <a:pt x="58380" y="20200"/>
                </a:lnTo>
                <a:lnTo>
                  <a:pt x="58380" y="1400"/>
                </a:lnTo>
                <a:close/>
              </a:path>
              <a:path fill="darkenLess" w="59780" h="21600">
                <a:moveTo>
                  <a:pt x="59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80" y="20200"/>
                </a:lnTo>
                <a:close/>
              </a:path>
              <a:path fill="lighten" w="59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Мерку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>
            <a:hlinkClick r:id="" action="ppaction://hlinkshowjump?jump=nextslide"/>
          </p:cNvPr>
          <p:cNvSpPr/>
          <p:nvPr/>
        </p:nvSpPr>
        <p:spPr>
          <a:xfrm>
            <a:off x="3600360" y="2266920"/>
            <a:ext cx="2089080" cy="587520"/>
          </a:xfrm>
          <a:custGeom>
            <a:avLst/>
            <a:gdLst>
              <a:gd name="textAreaLeft" fmla="*/ 37800 w 2089080"/>
              <a:gd name="textAreaRight" fmla="*/ 2051280 w 2089080"/>
              <a:gd name="textAreaTop" fmla="*/ 37800 h 587520"/>
              <a:gd name="textAreaBottom" fmla="*/ 549720 h 587520"/>
            </a:gdLst>
            <a:ahLst/>
            <a:rect l="textAreaLeft" t="textAreaTop" r="textAreaRight" b="textAreaBottom"/>
            <a:pathLst>
              <a:path w="76771" h="21600">
                <a:moveTo>
                  <a:pt x="0" y="0"/>
                </a:moveTo>
                <a:lnTo>
                  <a:pt x="76771" y="0"/>
                </a:lnTo>
                <a:lnTo>
                  <a:pt x="76771" y="21600"/>
                </a:lnTo>
                <a:lnTo>
                  <a:pt x="0" y="21600"/>
                </a:lnTo>
                <a:close/>
              </a:path>
              <a:path fill="lightenLess" w="76771" h="21600">
                <a:moveTo>
                  <a:pt x="0" y="0"/>
                </a:moveTo>
                <a:lnTo>
                  <a:pt x="76771" y="0"/>
                </a:lnTo>
                <a:lnTo>
                  <a:pt x="75371" y="1400"/>
                </a:lnTo>
                <a:lnTo>
                  <a:pt x="1400" y="1400"/>
                </a:lnTo>
                <a:close/>
              </a:path>
              <a:path fill="darken" w="76771" h="21600">
                <a:moveTo>
                  <a:pt x="76771" y="0"/>
                </a:moveTo>
                <a:lnTo>
                  <a:pt x="76771" y="21600"/>
                </a:lnTo>
                <a:lnTo>
                  <a:pt x="75371" y="20200"/>
                </a:lnTo>
                <a:lnTo>
                  <a:pt x="75371" y="1400"/>
                </a:lnTo>
                <a:close/>
              </a:path>
              <a:path fill="darkenLess" w="76771" h="21600">
                <a:moveTo>
                  <a:pt x="76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1" y="20200"/>
                </a:lnTo>
                <a:close/>
              </a:path>
              <a:path fill="lighten" w="76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Garamond"/>
              </a:rPr>
              <a:t>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>
            <a:hlinkClick r:id="" action="ppaction://hlinkshowjump?jump=nextslide"/>
          </p:cNvPr>
          <p:cNvSpPr/>
          <p:nvPr/>
        </p:nvSpPr>
        <p:spPr>
          <a:xfrm>
            <a:off x="3960720" y="3780000"/>
            <a:ext cx="1728720" cy="576000"/>
          </a:xfrm>
          <a:custGeom>
            <a:avLst/>
            <a:gdLst>
              <a:gd name="textAreaLeft" fmla="*/ 37080 w 1728720"/>
              <a:gd name="textAreaRight" fmla="*/ 1691640 w 1728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Яп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6">
            <a:hlinkClick r:id="" action="ppaction://hlinkshowjump?jump=nextslide"/>
          </p:cNvPr>
          <p:cNvSpPr/>
          <p:nvPr/>
        </p:nvSpPr>
        <p:spPr>
          <a:xfrm>
            <a:off x="3887640" y="5075280"/>
            <a:ext cx="1656000" cy="576360"/>
          </a:xfrm>
          <a:custGeom>
            <a:avLst/>
            <a:gdLst>
              <a:gd name="textAreaLeft" fmla="*/ 37080 w 1656000"/>
              <a:gd name="textAreaRight" fmla="*/ 1618920 w 165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2036" h="21600">
                <a:moveTo>
                  <a:pt x="0" y="0"/>
                </a:moveTo>
                <a:lnTo>
                  <a:pt x="62036" y="0"/>
                </a:lnTo>
                <a:lnTo>
                  <a:pt x="62036" y="21600"/>
                </a:lnTo>
                <a:lnTo>
                  <a:pt x="0" y="21600"/>
                </a:lnTo>
                <a:close/>
              </a:path>
              <a:path fill="lightenLess" w="62036" h="21600">
                <a:moveTo>
                  <a:pt x="0" y="0"/>
                </a:moveTo>
                <a:lnTo>
                  <a:pt x="62036" y="0"/>
                </a:lnTo>
                <a:lnTo>
                  <a:pt x="60636" y="1400"/>
                </a:lnTo>
                <a:lnTo>
                  <a:pt x="1400" y="1400"/>
                </a:lnTo>
                <a:close/>
              </a:path>
              <a:path fill="darken" w="62036" h="21600">
                <a:moveTo>
                  <a:pt x="62036" y="0"/>
                </a:moveTo>
                <a:lnTo>
                  <a:pt x="62036" y="21600"/>
                </a:lnTo>
                <a:lnTo>
                  <a:pt x="60636" y="20200"/>
                </a:lnTo>
                <a:lnTo>
                  <a:pt x="60636" y="1400"/>
                </a:lnTo>
                <a:close/>
              </a:path>
              <a:path fill="darkenLess" w="62036" h="21600">
                <a:moveTo>
                  <a:pt x="62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36" y="20200"/>
                </a:lnTo>
                <a:close/>
              </a:path>
              <a:path fill="lighten" w="62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Юп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504720" y="503280"/>
            <a:ext cx="419040" cy="420480"/>
          </a:xfrm>
          <a:custGeom>
            <a:avLst/>
            <a:gdLst>
              <a:gd name="textAreaLeft" fmla="*/ 27000 w 419040"/>
              <a:gd name="textAreaRight" fmla="*/ 392040 w 419040"/>
              <a:gd name="textAreaTop" fmla="*/ 27000 h 420480"/>
              <a:gd name="textAreaBottom" fmla="*/ 393480 h 420480"/>
            </a:gdLst>
            <a:ahLst/>
            <a:rect l="textAreaLeft" t="textAreaTop" r="textAreaRight" b="textAreaBottom"/>
            <a:pathLst>
              <a:path w="21600" h="21674">
                <a:moveTo>
                  <a:pt x="0" y="0"/>
                </a:moveTo>
                <a:lnTo>
                  <a:pt x="21600" y="0"/>
                </a:lnTo>
                <a:lnTo>
                  <a:pt x="21600" y="21674"/>
                </a:lnTo>
                <a:lnTo>
                  <a:pt x="0" y="21674"/>
                </a:lnTo>
                <a:close/>
              </a:path>
              <a:path fill="lightenLess" w="21600" h="216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4">
                <a:moveTo>
                  <a:pt x="21600" y="0"/>
                </a:moveTo>
                <a:lnTo>
                  <a:pt x="21600" y="21674"/>
                </a:lnTo>
                <a:lnTo>
                  <a:pt x="20200" y="20274"/>
                </a:lnTo>
                <a:lnTo>
                  <a:pt x="20200" y="1400"/>
                </a:lnTo>
                <a:close/>
              </a:path>
              <a:path fill="darkenLess" w="21600" h="21674">
                <a:moveTo>
                  <a:pt x="21600" y="21674"/>
                </a:moveTo>
                <a:lnTo>
                  <a:pt x="0" y="21674"/>
                </a:lnTo>
                <a:lnTo>
                  <a:pt x="1400" y="20274"/>
                </a:lnTo>
                <a:lnTo>
                  <a:pt x="20200" y="20274"/>
                </a:lnTo>
                <a:close/>
              </a:path>
              <a:path fill="lighten" w="21600" h="21674">
                <a:moveTo>
                  <a:pt x="0" y="216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4"/>
                </a:lnTo>
                <a:close/>
              </a:path>
              <a:path fill="darken" w="21600" h="21674">
                <a:moveTo>
                  <a:pt x="10800" y="3874"/>
                </a:moveTo>
                <a:lnTo>
                  <a:pt x="13376" y="6485"/>
                </a:lnTo>
                <a:lnTo>
                  <a:pt x="13376" y="4744"/>
                </a:lnTo>
                <a:lnTo>
                  <a:pt x="15152" y="4744"/>
                </a:lnTo>
                <a:lnTo>
                  <a:pt x="15152" y="8261"/>
                </a:lnTo>
                <a:lnTo>
                  <a:pt x="17763" y="10837"/>
                </a:lnTo>
                <a:lnTo>
                  <a:pt x="16109" y="10837"/>
                </a:lnTo>
                <a:lnTo>
                  <a:pt x="16109" y="18026"/>
                </a:lnTo>
                <a:lnTo>
                  <a:pt x="5491" y="18026"/>
                </a:lnTo>
                <a:lnTo>
                  <a:pt x="5491" y="10837"/>
                </a:lnTo>
                <a:lnTo>
                  <a:pt x="3837" y="10837"/>
                </a:lnTo>
                <a:close/>
              </a:path>
              <a:path fill="darkenLess" w="21600" h="21674">
                <a:moveTo>
                  <a:pt x="13376" y="6485"/>
                </a:moveTo>
                <a:lnTo>
                  <a:pt x="13376" y="4744"/>
                </a:lnTo>
                <a:lnTo>
                  <a:pt x="15152" y="4744"/>
                </a:lnTo>
                <a:lnTo>
                  <a:pt x="15152" y="8261"/>
                </a:lnTo>
                <a:close/>
              </a:path>
              <a:path fill="darkenLess" w="21600" h="21674">
                <a:moveTo>
                  <a:pt x="9877" y="14336"/>
                </a:moveTo>
                <a:lnTo>
                  <a:pt x="11723" y="14336"/>
                </a:lnTo>
                <a:lnTo>
                  <a:pt x="11723" y="18026"/>
                </a:lnTo>
                <a:lnTo>
                  <a:pt x="16109" y="18026"/>
                </a:lnTo>
                <a:lnTo>
                  <a:pt x="16109" y="10837"/>
                </a:lnTo>
                <a:lnTo>
                  <a:pt x="5491" y="10837"/>
                </a:lnTo>
                <a:lnTo>
                  <a:pt x="5491" y="18026"/>
                </a:lnTo>
                <a:lnTo>
                  <a:pt x="9877" y="180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>
            <a:hlinkClick r:id="rId4"/>
          </p:cNvPr>
          <p:cNvSpPr/>
          <p:nvPr/>
        </p:nvSpPr>
        <p:spPr>
          <a:xfrm>
            <a:off x="3745080" y="6372360"/>
            <a:ext cx="1847520" cy="576000"/>
          </a:xfrm>
          <a:custGeom>
            <a:avLst/>
            <a:gdLst>
              <a:gd name="textAreaLeft" fmla="*/ 37080 w 1847520"/>
              <a:gd name="textAreaRight" fmla="*/ 1810440 w 18475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9252" h="21600">
                <a:moveTo>
                  <a:pt x="0" y="0"/>
                </a:moveTo>
                <a:lnTo>
                  <a:pt x="69252" y="0"/>
                </a:lnTo>
                <a:lnTo>
                  <a:pt x="69252" y="21600"/>
                </a:lnTo>
                <a:lnTo>
                  <a:pt x="0" y="21600"/>
                </a:lnTo>
                <a:close/>
              </a:path>
              <a:path fill="lightenLess" w="69252" h="21600">
                <a:moveTo>
                  <a:pt x="0" y="0"/>
                </a:moveTo>
                <a:lnTo>
                  <a:pt x="69252" y="0"/>
                </a:lnTo>
                <a:lnTo>
                  <a:pt x="67852" y="1400"/>
                </a:lnTo>
                <a:lnTo>
                  <a:pt x="1400" y="1400"/>
                </a:lnTo>
                <a:close/>
              </a:path>
              <a:path fill="darken" w="69252" h="21600">
                <a:moveTo>
                  <a:pt x="69252" y="0"/>
                </a:moveTo>
                <a:lnTo>
                  <a:pt x="69252" y="21600"/>
                </a:lnTo>
                <a:lnTo>
                  <a:pt x="67852" y="20200"/>
                </a:lnTo>
                <a:lnTo>
                  <a:pt x="67852" y="1400"/>
                </a:lnTo>
                <a:close/>
              </a:path>
              <a:path fill="darkenLess" w="69252" h="21600">
                <a:moveTo>
                  <a:pt x="69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52" y="20200"/>
                </a:lnTo>
                <a:close/>
              </a:path>
              <a:path fill="lighten" w="69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>
            <a:hlinkClick r:id="rId5"/>
          </p:cNvPr>
          <p:cNvSpPr/>
          <p:nvPr/>
        </p:nvSpPr>
        <p:spPr>
          <a:xfrm>
            <a:off x="1008000" y="6372360"/>
            <a:ext cx="1656000" cy="576000"/>
          </a:xfrm>
          <a:custGeom>
            <a:avLst/>
            <a:gdLst>
              <a:gd name="textAreaLeft" fmla="*/ 37080 w 1656000"/>
              <a:gd name="textAreaRight" fmla="*/ 1618920 w 165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2075" h="21600">
                <a:moveTo>
                  <a:pt x="0" y="0"/>
                </a:moveTo>
                <a:lnTo>
                  <a:pt x="62075" y="0"/>
                </a:lnTo>
                <a:lnTo>
                  <a:pt x="62075" y="21600"/>
                </a:lnTo>
                <a:lnTo>
                  <a:pt x="0" y="21600"/>
                </a:lnTo>
                <a:close/>
              </a:path>
              <a:path fill="lightenLess" w="62075" h="21600">
                <a:moveTo>
                  <a:pt x="0" y="0"/>
                </a:moveTo>
                <a:lnTo>
                  <a:pt x="62075" y="0"/>
                </a:lnTo>
                <a:lnTo>
                  <a:pt x="60675" y="1400"/>
                </a:lnTo>
                <a:lnTo>
                  <a:pt x="1400" y="1400"/>
                </a:lnTo>
                <a:close/>
              </a:path>
              <a:path fill="darken" w="62075" h="21600">
                <a:moveTo>
                  <a:pt x="62075" y="0"/>
                </a:moveTo>
                <a:lnTo>
                  <a:pt x="62075" y="21600"/>
                </a:lnTo>
                <a:lnTo>
                  <a:pt x="60675" y="20200"/>
                </a:lnTo>
                <a:lnTo>
                  <a:pt x="60675" y="1400"/>
                </a:lnTo>
                <a:close/>
              </a:path>
              <a:path fill="darkenLess" w="62075" h="21600">
                <a:moveTo>
                  <a:pt x="6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75" y="20200"/>
                </a:lnTo>
                <a:close/>
              </a:path>
              <a:path fill="lighten" w="6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19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>
            <a:hlinkClick r:id="rId6"/>
          </p:cNvPr>
          <p:cNvSpPr/>
          <p:nvPr/>
        </p:nvSpPr>
        <p:spPr>
          <a:xfrm>
            <a:off x="6624720" y="6372360"/>
            <a:ext cx="1655640" cy="576000"/>
          </a:xfrm>
          <a:custGeom>
            <a:avLst/>
            <a:gdLst>
              <a:gd name="textAreaLeft" fmla="*/ 37080 w 1655640"/>
              <a:gd name="textAreaRight" fmla="*/ 1618560 w 1655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19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7120" y="1954080"/>
            <a:ext cx="2460600" cy="22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1) 7,4 +3,2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2) 18,6 + 4,2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3) 7,5 – 0,7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4) 5,9 + 0,3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99120" y="2033640"/>
            <a:ext cx="2620800" cy="22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5) 50,2 – 20,2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6) 3 – 0,4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7) 9,5 – 4,3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8) 4,2 + 2,06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4720" y="4572000"/>
          <a:ext cx="6677280" cy="2071800"/>
        </p:xfrm>
        <a:graphic>
          <a:graphicData uri="http://schemas.openxmlformats.org/drawingml/2006/table">
            <a:tbl>
              <a:tblPr/>
              <a:tblGrid>
                <a:gridCol w="955800"/>
                <a:gridCol w="950760"/>
                <a:gridCol w="955800"/>
                <a:gridCol w="954000"/>
                <a:gridCol w="954360"/>
                <a:gridCol w="954000"/>
                <a:gridCol w="952560"/>
              </a:tblGrid>
              <a:tr h="4669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2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7,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,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8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2421000" y="1954080"/>
            <a:ext cx="712800" cy="476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990033"/>
                </a:solidFill>
                <a:latin typeface="Arial"/>
              </a:rPr>
              <a:t>10,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38520" y="2352600"/>
            <a:ext cx="714240" cy="474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990033"/>
                </a:solidFill>
                <a:latin typeface="Arial"/>
              </a:rPr>
              <a:t>22,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2827440"/>
            <a:ext cx="635040" cy="476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990033"/>
                </a:solidFill>
                <a:latin typeface="Arial"/>
              </a:rPr>
              <a:t>6,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0200" y="3303720"/>
            <a:ext cx="636840" cy="476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990033"/>
                </a:solidFill>
                <a:latin typeface="Arial"/>
              </a:rPr>
              <a:t>6,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00960" y="3621240"/>
            <a:ext cx="79524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990033"/>
                </a:solidFill>
                <a:latin typeface="Arial"/>
              </a:rPr>
              <a:t>6,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24680" y="2668680"/>
            <a:ext cx="635040" cy="476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990033"/>
                </a:solidFill>
                <a:latin typeface="Arial"/>
              </a:rPr>
              <a:t>2,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38920" y="2271600"/>
            <a:ext cx="635040" cy="476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990033"/>
                </a:solidFill>
                <a:latin typeface="Arial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76360" y="5075280"/>
            <a:ext cx="951120" cy="55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84720" y="6156360"/>
            <a:ext cx="952200" cy="55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19640" y="5075280"/>
            <a:ext cx="952560" cy="55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56360" y="6156360"/>
            <a:ext cx="952200" cy="55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0000" y="6156360"/>
            <a:ext cx="952200" cy="55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5880" y="5129280"/>
            <a:ext cx="952560" cy="55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3280" y="6156360"/>
            <a:ext cx="952560" cy="55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27640" y="5075280"/>
            <a:ext cx="952560" cy="55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42200" y="3144960"/>
            <a:ext cx="633240" cy="476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i="1" lang="ru-RU" sz="2600" spc="-1" strike="noStrike">
                <a:solidFill>
                  <a:srgbClr val="990033"/>
                </a:solidFill>
                <a:latin typeface="Arial"/>
              </a:rPr>
              <a:t>5,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1280" y="250920"/>
            <a:ext cx="714384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шифрованное сло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693280" y="7034040"/>
            <a:ext cx="476280" cy="317520"/>
          </a:xfrm>
          <a:custGeom>
            <a:avLst/>
            <a:gdLst>
              <a:gd name="textAreaLeft" fmla="*/ 20520 w 476280"/>
              <a:gd name="textAreaRight" fmla="*/ 455760 w 47628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388" h="21600">
                <a:moveTo>
                  <a:pt x="0" y="0"/>
                </a:moveTo>
                <a:lnTo>
                  <a:pt x="32388" y="0"/>
                </a:lnTo>
                <a:lnTo>
                  <a:pt x="32388" y="21600"/>
                </a:lnTo>
                <a:lnTo>
                  <a:pt x="0" y="21600"/>
                </a:lnTo>
                <a:close/>
              </a:path>
              <a:path fill="lightenLess" w="32388" h="21600">
                <a:moveTo>
                  <a:pt x="0" y="0"/>
                </a:moveTo>
                <a:lnTo>
                  <a:pt x="32388" y="0"/>
                </a:lnTo>
                <a:lnTo>
                  <a:pt x="30988" y="1400"/>
                </a:lnTo>
                <a:lnTo>
                  <a:pt x="1400" y="1400"/>
                </a:lnTo>
                <a:close/>
              </a:path>
              <a:path fill="darken" w="32388" h="21600">
                <a:moveTo>
                  <a:pt x="32388" y="0"/>
                </a:moveTo>
                <a:lnTo>
                  <a:pt x="32388" y="21600"/>
                </a:lnTo>
                <a:lnTo>
                  <a:pt x="30988" y="20200"/>
                </a:lnTo>
                <a:lnTo>
                  <a:pt x="30988" y="1400"/>
                </a:lnTo>
                <a:close/>
              </a:path>
              <a:path fill="darkenLess" w="32388" h="21600">
                <a:moveTo>
                  <a:pt x="32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8" y="20200"/>
                </a:lnTo>
                <a:close/>
              </a:path>
              <a:path fill="lighten" w="32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8" h="21600">
                <a:moveTo>
                  <a:pt x="16194" y="3837"/>
                </a:moveTo>
                <a:lnTo>
                  <a:pt x="18770" y="6448"/>
                </a:lnTo>
                <a:lnTo>
                  <a:pt x="18770" y="4707"/>
                </a:lnTo>
                <a:lnTo>
                  <a:pt x="20546" y="4707"/>
                </a:lnTo>
                <a:lnTo>
                  <a:pt x="20546" y="8224"/>
                </a:lnTo>
                <a:lnTo>
                  <a:pt x="23157" y="10800"/>
                </a:lnTo>
                <a:lnTo>
                  <a:pt x="21503" y="10800"/>
                </a:lnTo>
                <a:lnTo>
                  <a:pt x="21503" y="17989"/>
                </a:lnTo>
                <a:lnTo>
                  <a:pt x="10885" y="17989"/>
                </a:lnTo>
                <a:lnTo>
                  <a:pt x="10885" y="10800"/>
                </a:lnTo>
                <a:lnTo>
                  <a:pt x="9231" y="10800"/>
                </a:lnTo>
                <a:close/>
              </a:path>
              <a:path fill="darkenLess" w="32388" h="21600">
                <a:moveTo>
                  <a:pt x="18770" y="6448"/>
                </a:moveTo>
                <a:lnTo>
                  <a:pt x="18770" y="4707"/>
                </a:lnTo>
                <a:lnTo>
                  <a:pt x="20546" y="4707"/>
                </a:lnTo>
                <a:lnTo>
                  <a:pt x="20546" y="8224"/>
                </a:lnTo>
                <a:close/>
              </a:path>
              <a:path fill="darkenLess" w="32388" h="21600">
                <a:moveTo>
                  <a:pt x="15271" y="14299"/>
                </a:moveTo>
                <a:lnTo>
                  <a:pt x="17116" y="14299"/>
                </a:lnTo>
                <a:lnTo>
                  <a:pt x="17116" y="17989"/>
                </a:lnTo>
                <a:lnTo>
                  <a:pt x="21503" y="17989"/>
                </a:lnTo>
                <a:lnTo>
                  <a:pt x="21503" y="10800"/>
                </a:lnTo>
                <a:lnTo>
                  <a:pt x="10885" y="10800"/>
                </a:lnTo>
                <a:lnTo>
                  <a:pt x="10885" y="17989"/>
                </a:lnTo>
                <a:lnTo>
                  <a:pt x="15271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9247320" y="7034040"/>
            <a:ext cx="515880" cy="317520"/>
          </a:xfrm>
          <a:custGeom>
            <a:avLst/>
            <a:gdLst>
              <a:gd name="textAreaLeft" fmla="*/ 20520 w 515880"/>
              <a:gd name="textAreaRight" fmla="*/ 495360 w 51588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5079" h="21600">
                <a:moveTo>
                  <a:pt x="0" y="0"/>
                </a:moveTo>
                <a:lnTo>
                  <a:pt x="35079" y="0"/>
                </a:lnTo>
                <a:lnTo>
                  <a:pt x="35079" y="21600"/>
                </a:lnTo>
                <a:lnTo>
                  <a:pt x="0" y="21600"/>
                </a:lnTo>
                <a:close/>
              </a:path>
              <a:path fill="lightenLess" w="35079" h="21600">
                <a:moveTo>
                  <a:pt x="0" y="0"/>
                </a:moveTo>
                <a:lnTo>
                  <a:pt x="35079" y="0"/>
                </a:lnTo>
                <a:lnTo>
                  <a:pt x="33679" y="1400"/>
                </a:lnTo>
                <a:lnTo>
                  <a:pt x="1400" y="1400"/>
                </a:lnTo>
                <a:close/>
              </a:path>
              <a:path fill="darken" w="35079" h="21600">
                <a:moveTo>
                  <a:pt x="35079" y="0"/>
                </a:moveTo>
                <a:lnTo>
                  <a:pt x="35079" y="21600"/>
                </a:lnTo>
                <a:lnTo>
                  <a:pt x="33679" y="20200"/>
                </a:lnTo>
                <a:lnTo>
                  <a:pt x="33679" y="1400"/>
                </a:lnTo>
                <a:close/>
              </a:path>
              <a:path fill="darkenLess" w="35079" h="21600">
                <a:moveTo>
                  <a:pt x="35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9" y="20200"/>
                </a:lnTo>
                <a:close/>
              </a:path>
              <a:path fill="lighten" w="35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9" h="21600">
                <a:moveTo>
                  <a:pt x="10533" y="3794"/>
                </a:moveTo>
                <a:lnTo>
                  <a:pt x="24546" y="10800"/>
                </a:lnTo>
                <a:lnTo>
                  <a:pt x="1053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08000" y="1187280"/>
            <a:ext cx="907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ичка собаки, первой побывавшей в космо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16200000">
            <a:off x="8251560" y="136440"/>
            <a:ext cx="1365120" cy="1739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087640" y="2700360"/>
            <a:ext cx="49086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719280" y="0"/>
            <a:ext cx="7774920" cy="6460920"/>
            <a:chOff x="719280" y="0"/>
            <a:chExt cx="7774920" cy="6460920"/>
          </a:xfrm>
        </p:grpSpPr>
        <p:sp>
          <p:nvSpPr>
            <p:cNvPr id="141" name=""/>
            <p:cNvSpPr/>
            <p:nvPr/>
          </p:nvSpPr>
          <p:spPr>
            <a:xfrm>
              <a:off x="719280" y="907920"/>
              <a:ext cx="7475040" cy="48243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63137"/>
                  </a:srgbClr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61640" y="1541520"/>
              <a:ext cx="8157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:5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99560" y="79200"/>
              <a:ext cx="97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840" y="2493720"/>
              <a:ext cx="114228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+0,4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94520" y="0"/>
              <a:ext cx="10620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79920" y="3208320"/>
              <a:ext cx="114228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∙</a:t>
              </a: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9920" y="3922560"/>
              <a:ext cx="114228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:3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97120" y="4795560"/>
              <a:ext cx="11419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+0,7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9280" y="5516280"/>
              <a:ext cx="163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1061640" y="5748120"/>
              <a:ext cx="31140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30040" y="952560"/>
              <a:ext cx="106020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7,2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30040" y="1746000"/>
              <a:ext cx="106020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30040" y="2700360"/>
              <a:ext cx="114228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: 8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13200" y="3571920"/>
              <a:ext cx="13867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∙</a:t>
              </a:r>
              <a:r>
                <a:rPr b="1" lang="ru-RU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93120" y="4365360"/>
              <a:ext cx="10623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:8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5200" y="5000400"/>
              <a:ext cx="106020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+4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68760" y="5551200"/>
              <a:ext cx="163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419640" y="5876640"/>
              <a:ext cx="3132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69800" y="952560"/>
              <a:ext cx="1060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69800" y="1666800"/>
              <a:ext cx="1060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:3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867600" y="331560"/>
              <a:ext cx="605160" cy="57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)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846880" y="390240"/>
              <a:ext cx="605160" cy="50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)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88440" y="2617560"/>
              <a:ext cx="106020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+6,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69800" y="3571920"/>
              <a:ext cx="1060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∙</a:t>
              </a: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32880" y="4363920"/>
              <a:ext cx="106056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:0,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7040" y="5011560"/>
              <a:ext cx="146844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+3,7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44680" y="952560"/>
              <a:ext cx="10623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87800" y="1842840"/>
              <a:ext cx="146988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∙</a:t>
              </a: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4680" y="2778120"/>
              <a:ext cx="11437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100" spc="-1" strike="noStrike">
                  <a:solidFill>
                    <a:srgbClr val="000000"/>
                  </a:solidFill>
                  <a:latin typeface="Arial"/>
                </a:rPr>
                <a:t>+7,8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27840" y="3651120"/>
              <a:ext cx="114228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: 6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27840" y="4363920"/>
              <a:ext cx="146988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+0,7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89480" y="4998960"/>
              <a:ext cx="114228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  <a:ea typeface="Arial"/>
                </a:rPr>
                <a:t>+1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90160" y="5587920"/>
              <a:ext cx="163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63040" y="5587920"/>
              <a:ext cx="163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294520" y="5873760"/>
              <a:ext cx="312840" cy="58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7580880" y="5794200"/>
              <a:ext cx="31284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5132880" y="395280"/>
              <a:ext cx="603720" cy="57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)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936120" y="403200"/>
              <a:ext cx="605160" cy="57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)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79560" y="715680"/>
              <a:ext cx="10663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ru-RU" sz="3500" spc="-1" strike="noStrike">
                  <a:solidFill>
                    <a:srgbClr val="000000"/>
                  </a:solidFill>
                  <a:latin typeface="Arial"/>
                </a:rPr>
                <a:t>0,25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92000" y="5651640"/>
            <a:ext cx="1223640" cy="936000"/>
            <a:chOff x="792000" y="5651640"/>
            <a:chExt cx="1223640" cy="936000"/>
          </a:xfrm>
        </p:grpSpPr>
        <p:sp>
          <p:nvSpPr>
            <p:cNvPr id="181" name=""/>
            <p:cNvSpPr/>
            <p:nvPr/>
          </p:nvSpPr>
          <p:spPr>
            <a:xfrm>
              <a:off x="792000" y="5651640"/>
              <a:ext cx="1223640" cy="93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1036800" y="5737320"/>
              <a:ext cx="797400" cy="75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1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79640" y="5724360"/>
            <a:ext cx="1223640" cy="934920"/>
            <a:chOff x="2879640" y="5724360"/>
            <a:chExt cx="1223640" cy="934920"/>
          </a:xfrm>
        </p:grpSpPr>
        <p:sp>
          <p:nvSpPr>
            <p:cNvPr id="184" name=""/>
            <p:cNvSpPr/>
            <p:nvPr/>
          </p:nvSpPr>
          <p:spPr>
            <a:xfrm>
              <a:off x="2879640" y="5724360"/>
              <a:ext cx="1223640" cy="93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3063240" y="5810040"/>
              <a:ext cx="798840" cy="65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9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824360" y="5724360"/>
            <a:ext cx="1294920" cy="934920"/>
            <a:chOff x="4824360" y="5724360"/>
            <a:chExt cx="1294920" cy="934920"/>
          </a:xfrm>
        </p:grpSpPr>
        <p:sp>
          <p:nvSpPr>
            <p:cNvPr id="187" name=""/>
            <p:cNvSpPr/>
            <p:nvPr/>
          </p:nvSpPr>
          <p:spPr>
            <a:xfrm>
              <a:off x="4824360" y="5724360"/>
              <a:ext cx="1294920" cy="93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344200" y="5810040"/>
              <a:ext cx="475920" cy="65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6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28000" y="5651640"/>
            <a:ext cx="1223640" cy="936000"/>
            <a:chOff x="7128000" y="5651640"/>
            <a:chExt cx="1223640" cy="936000"/>
          </a:xfrm>
        </p:grpSpPr>
        <p:sp>
          <p:nvSpPr>
            <p:cNvPr id="190" name=""/>
            <p:cNvSpPr/>
            <p:nvPr/>
          </p:nvSpPr>
          <p:spPr>
            <a:xfrm>
              <a:off x="7128000" y="5651640"/>
              <a:ext cx="1223640" cy="93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128000" y="5737320"/>
              <a:ext cx="1079640" cy="75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5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1440000" y="1619280"/>
            <a:ext cx="6769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ход человека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открытый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смос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 rot="10800000">
            <a:off x="360360" y="394920"/>
            <a:ext cx="13651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672000" y="611280"/>
            <a:ext cx="1873080" cy="2663640"/>
          </a:xfrm>
          <a:prstGeom prst="rect">
            <a:avLst/>
          </a:prstGeom>
          <a:noFill/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3280" y="3160440"/>
            <a:ext cx="2448000" cy="603720"/>
          </a:xfrm>
          <a:prstGeom prst="rect">
            <a:avLst/>
          </a:prstGeom>
          <a:noFill/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Леонов Алексей Архип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92000" y="684360"/>
            <a:ext cx="1876680" cy="2374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745080" y="611280"/>
            <a:ext cx="1752480" cy="2663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311640" y="3376440"/>
            <a:ext cx="2679480" cy="603720"/>
          </a:xfrm>
          <a:prstGeom prst="rect">
            <a:avLst/>
          </a:prstGeom>
          <a:noFill/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Бере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Георгий 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696000" y="755640"/>
            <a:ext cx="2062080" cy="2519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60880" y="3366720"/>
            <a:ext cx="1883160" cy="603720"/>
          </a:xfrm>
          <a:prstGeom prst="rect">
            <a:avLst/>
          </a:prstGeom>
          <a:noFill/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Попов Леони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9280" y="611280"/>
            <a:ext cx="1944720" cy="2520720"/>
          </a:xfrm>
          <a:prstGeom prst="rect">
            <a:avLst/>
          </a:prstGeom>
          <a:noFill/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24720" y="684360"/>
            <a:ext cx="2160360" cy="2590560"/>
          </a:xfrm>
          <a:prstGeom prst="rect">
            <a:avLst/>
          </a:prstGeom>
          <a:noFill/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0" y="0"/>
                <a:ext cx="15238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⋅</m:t>
                    </m:r>
                    <m:r>
                      <m:t xml:space="preserve">3,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7,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0" y="0"/>
                <a:ext cx="15238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⋅</m:t>
                    </m:r>
                    <m:r>
                      <m:t xml:space="preserve">3,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7,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0" y="334800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52360" y="5364000"/>
            <a:ext cx="8137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(18 – 16,9)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∙3,3 – 3 : 7,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176720" y="4140360"/>
            <a:ext cx="895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80">
                    <a:alpha val="98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,59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80">
                  <a:alpha val="98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52360" y="3995640"/>
            <a:ext cx="895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80">
                    <a:alpha val="98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,23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80">
                  <a:alpha val="98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056360" y="4067280"/>
            <a:ext cx="895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80">
                    <a:alpha val="98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,23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80">
                  <a:alpha val="98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8136000" y="5364000"/>
            <a:ext cx="1365120" cy="1740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0" y="5651640"/>
            <a:ext cx="146376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03280" y="466560"/>
            <a:ext cx="3836880" cy="1152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,16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11640" y="1042920"/>
            <a:ext cx="3837240" cy="1150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,6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0,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7280" y="3780000"/>
            <a:ext cx="2449440" cy="8632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0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 rot="16200000">
            <a:off x="384120" y="658800"/>
            <a:ext cx="1151280" cy="766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111640" y="4859280"/>
            <a:ext cx="2449800" cy="8636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,0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87640" y="2411280"/>
            <a:ext cx="3836880" cy="1152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: 9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85080" y="2771640"/>
            <a:ext cx="2449440" cy="8636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,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087640" y="2484360"/>
            <a:ext cx="1081080" cy="855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03280" y="5867280"/>
            <a:ext cx="3836880" cy="1152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,03024: 5,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32360" y="3635280"/>
            <a:ext cx="2449440" cy="8636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0,00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flipH="1">
            <a:off x="503280" y="6012000"/>
            <a:ext cx="1069920" cy="712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64000" y="6227640"/>
            <a:ext cx="2449440" cy="8636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0,0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72360" y="6156360"/>
            <a:ext cx="2449440" cy="8636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,26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5111640" y="1116000"/>
            <a:ext cx="93672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 rot="428400">
            <a:off x="5688000" y="539280"/>
            <a:ext cx="3602160" cy="67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уда улетит комета?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9288360" y="7093080"/>
            <a:ext cx="792360" cy="466560"/>
          </a:xfrm>
          <a:custGeom>
            <a:avLst/>
            <a:gdLst>
              <a:gd name="textAreaLeft" fmla="*/ 30240 w 792360"/>
              <a:gd name="textAreaRight" fmla="*/ 762120 w 7923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6672" h="21600">
                <a:moveTo>
                  <a:pt x="0" y="0"/>
                </a:moveTo>
                <a:lnTo>
                  <a:pt x="36672" y="0"/>
                </a:lnTo>
                <a:lnTo>
                  <a:pt x="36672" y="21600"/>
                </a:lnTo>
                <a:lnTo>
                  <a:pt x="0" y="21600"/>
                </a:lnTo>
                <a:close/>
              </a:path>
              <a:path fill="lightenLess" w="36672" h="21600">
                <a:moveTo>
                  <a:pt x="0" y="0"/>
                </a:moveTo>
                <a:lnTo>
                  <a:pt x="36672" y="0"/>
                </a:lnTo>
                <a:lnTo>
                  <a:pt x="35272" y="1400"/>
                </a:lnTo>
                <a:lnTo>
                  <a:pt x="1400" y="1400"/>
                </a:lnTo>
                <a:close/>
              </a:path>
              <a:path fill="darken" w="36672" h="21600">
                <a:moveTo>
                  <a:pt x="36672" y="0"/>
                </a:moveTo>
                <a:lnTo>
                  <a:pt x="36672" y="21600"/>
                </a:lnTo>
                <a:lnTo>
                  <a:pt x="35272" y="20200"/>
                </a:lnTo>
                <a:lnTo>
                  <a:pt x="35272" y="1400"/>
                </a:lnTo>
                <a:close/>
              </a:path>
              <a:path fill="darkenLess" w="36672" h="21600">
                <a:moveTo>
                  <a:pt x="36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72" y="20200"/>
                </a:lnTo>
                <a:close/>
              </a:path>
              <a:path fill="lighten" w="36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72" h="21600">
                <a:moveTo>
                  <a:pt x="11329" y="3794"/>
                </a:moveTo>
                <a:lnTo>
                  <a:pt x="25342" y="10800"/>
                </a:lnTo>
                <a:lnTo>
                  <a:pt x="11329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 rot="16501200">
            <a:off x="8528040" y="3952800"/>
            <a:ext cx="1365120" cy="1739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 rot="8874000">
            <a:off x="7776360" y="4140000"/>
            <a:ext cx="136548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78947E-006 -6.80672E-006 L 0.0572 0.36197 E">
                                      <p:cBhvr>
                                        <p:cTn id="270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10558E-006 -3.86555E-006 L 0.42894 -3.86555E-006 E">
                                      <p:cBhvr>
                                        <p:cTn id="27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-0.05652 L 0.36148 -0.27563 E">
                                      <p:cBhvr>
                                        <p:cTn id="28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8872E-006 -5.29412E-006 L 0.31453 0.58129 E">
                                      <p:cBhvr>
                                        <p:cTn id="285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76360" y="971640"/>
            <a:ext cx="2052720" cy="2442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527280" y="0"/>
            <a:ext cx="2468880" cy="2244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7128000" y="1042920"/>
            <a:ext cx="2114280" cy="1905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1152360" y="4500720"/>
            <a:ext cx="6508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ЗМИНУТ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6624720" y="4284720"/>
            <a:ext cx="3456000" cy="2860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152360" y="2556000"/>
            <a:ext cx="6508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смическа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63640" y="6443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76360" y="971640"/>
            <a:ext cx="2052720" cy="2442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440000" y="1116000"/>
            <a:ext cx="4357440" cy="5732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472000" y="2050920"/>
            <a:ext cx="4145040" cy="446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392720" y="324000"/>
            <a:ext cx="46004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ДЬБА  НА МЕСТ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21:31:44Z</dcterms:created>
  <dc:creator/>
  <dc:description/>
  <dc:language>en-US</dc:language>
  <cp:lastModifiedBy>Natalia</cp:lastModifiedBy>
  <dcterms:modified xsi:type="dcterms:W3CDTF">2011-04-10T00:49:59Z</dcterms:modified>
  <cp:revision>38</cp:revision>
  <dc:subject/>
  <dc:title>Слайд 1</dc:title>
</cp:coreProperties>
</file>